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4.gif" ContentType="image/gif"/>
  <Override PartName="/ppt/media/image2.gif" ContentType="image/gif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408-B683-41DA-BF21-82761AEF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B47-29D8-4886-B5D0-0641436F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E56-A8D2-4E88-B5F0-0C3E0FC8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9A4-DF14-40EB-8B2F-897948E6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718B-37ED-4D02-891C-A6188F87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0D72-9D92-4FD0-8DA7-87863EAB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1305-69BD-4E4D-8F48-1A164171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53B5-60B1-4153-BC66-03C6DE49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86EF-9C24-4879-97BF-01FEC441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DEB5-D741-4762-AB3E-8DB95B6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D6FB-14DE-49B4-A4A6-5783C039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022-F5B5-4BA1-904C-2112EBA9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B2FC-7FB4-4963-90DE-D8AE7FC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45BA-9FC1-4CD5-963D-4B3DA2DD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1751-FB2E-42A5-AF8C-F233699D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E07B-B947-4F4D-9CD2-3B13F835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C93-193C-4FCB-95D8-99F79511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4CE-8A05-4F09-B36D-E76006E1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4E4-4B45-4338-9367-F979327B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3F5-E77A-43EC-9C5C-2A123148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27D-AD36-4BFB-8B63-9949D0D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604-AC6D-4C2C-BB0D-A356575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DC2-D3BA-495F-933E-AAF1F1AE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01A-86EA-48E0-9590-2C4BD36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FB2F-438E-43E7-B791-2B626785AD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CD08-43F6-4F08-AF7A-5C0B8AE241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8, 200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1524240" cy="73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84480" y="2873520"/>
            <a:ext cx="1173240" cy="1110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00400" y="4724280"/>
            <a:ext cx="19810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s of speec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tended respon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eries of Unfortunate Ev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deway Stories From Wayside scho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Report Card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391520" y="4114800"/>
            <a:ext cx="1226880" cy="1492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13716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mals and graph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ea and Perime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tended respons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ite boar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ound the worl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 time tes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15318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quariums and terrariu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king circui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d science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g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cial scientis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16002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ic str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ll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urnal top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cial person let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227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derwriters Laborator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ecosystem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room pa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809880" cy="281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 stor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l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talking a 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3048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talk at the appropriate times by focusing on my work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get better at cursive by practicing it when I write papers for school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do division better by practicing it at home every n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13622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5:11:12Z</dcterms:modified>
  <cp:revision>33</cp:revision>
  <dc:subject/>
  <dc:title>Welcome Mom and Dad!</dc:title>
</cp:coreProperties>
</file>